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5B0-2088-4D2B-981A-47A3DB9B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C2F-7126-42E9-B451-501F5B7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82DBA-A821-4CE2-83AF-4EC0986A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0996C-FC49-43A9-927A-5AE0435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36F71-FDC8-48E6-B952-EB02F2A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D907D-21AF-4F36-8E96-2F95BFA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A0D2-E8F5-49B4-A4F5-A826769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3D2D3-D33A-4E3B-9F77-E55221F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98DA7-EDC4-43EB-9566-0F6599F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C00D-08CC-4A5E-9A85-6500EFF9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04D9A-07E8-4C80-A6ED-41C8A7F1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61254-AB5D-4FA0-AE2A-7D8D6DA1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702-2C0D-4E9B-A3EB-404FA5BF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9702C-086B-4F44-8026-70165F3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620DE-8534-47C8-AEDD-13F6F03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B9C54-4481-4704-BA7B-6C4DB647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E7462-1639-41F4-A92A-AD545B8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D1812-DE90-43C6-AB61-363A5377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908B0-98BB-4064-B5F5-81FA5E0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73F7-ABC7-4DC5-95CF-2B87BCF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58F26-6985-42E7-93EA-06375A8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66B2B-2614-4075-984F-2B5A34D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F039E-F13F-4C93-8B06-1B35D3CA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EC0-B30C-4BE1-8FDD-EF167686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06E62-2AD4-432C-B0DD-AB84E311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3C2E3-ADE3-4D3B-AD70-4C67B1F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E9D1C-08FE-4986-948F-152DB76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E1EB3-D288-4E7A-8918-C7FDAE69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E859A-6B00-4373-942D-797F4696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64358-B74C-4150-A368-2CB6D1D3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6C089-E8B3-494C-902B-A2EF5612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FEE29-5919-4145-AE88-F03ABB7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F669-CC34-4A31-9A58-C98E39BF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41B13-AF86-4A45-A6EC-6D22AE2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E432-4540-4C20-91D3-0C0A5360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CB67D-4B91-4FA3-A7CA-6A0160C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4AE6-34A4-42CA-B554-D3E0CE88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EEDBC-BC0B-45DA-8149-BBD15274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310FF-C64B-491F-B36C-C619D6E7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71788-5062-4CD3-BF9D-B8054DCC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89A16-77F7-413F-AED8-524DEFB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BC3CF-A9FF-4256-A511-02147A5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ABC07-C70F-4B13-90CD-BCC4826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E4DF0-4772-468F-B2BF-AF788A3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E7DA0-716E-403B-8E2B-2F3FCEB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9BF6-0B00-403A-B56E-FA196D7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F4D38-1D4A-4353-B776-6A60E9C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6BE68-5022-4082-8047-467B356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D230E-C541-47C1-909A-78403AF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F457F-3CE7-4835-BA0D-D3A9E8B3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8A82F-2838-4705-8AC0-70087239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93A81-AA42-4EAC-A131-5378DEF2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094EE-3C53-4562-A009-70EE396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E7F76-DCC8-4736-8530-4B365C84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CF62D-30C9-4C0B-8A06-925909D2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EAC6B-CA4F-4E72-8E13-3CE9D33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1A4-30CD-49DD-ADF0-E41F9502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93E04-6CA3-44AD-8CDA-E7D2025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22583-1D07-4C1C-A2B8-EEF1F34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9AA74-1F6C-4642-9B4B-1C176F8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96517-42D6-4F86-81F3-8E094FE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044FD-595C-4407-B811-3F5963F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99EE2-F0FC-4205-99D9-334C4903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A8EEB-7568-48F5-A92D-0DCBAD73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96B4B-E906-45A6-B6B9-1A57E373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880C0-4494-47D8-8497-7D249AB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68C92-F9E1-4924-89CE-53279BF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D730-E247-43F1-8959-8F2FEFE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A5C0E-F95E-47EF-923C-39B678F3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5AAF2-CE07-4090-A5E4-0C31DAE9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94ABB-E300-4D77-AE9E-FBD9191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8E802-1A73-40A9-AF66-EC328CD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C91DE-EFCF-4826-9A68-0C66E44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5BD8D-BE9C-444E-BE9D-5869036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B5BA6-E610-4216-A59C-A09CDD4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31984-D210-41D3-90FB-4E86DB64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07934-10AD-411C-B329-8055BE21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C30C1-6586-4340-AF20-DAF85D18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47E-86F6-4716-8147-F09B0A1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7621A-2DFE-4E60-9328-7AB0986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86890-3107-49E8-915F-135F1D7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50BC1-97E3-4990-B1F8-EB1AC5F3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10930-BA31-47D8-BB69-5303096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81602-A82C-4296-B8D8-F9863B06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1C831-C88A-4284-95FA-341BCF2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FB47E-F518-4FD2-9AC2-39BD860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E06BB-9D4A-404B-AD66-92F03DA6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286A8-430D-4BB2-9082-0A021C4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5D908-A362-4154-AA32-CB5420A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A45C-23F2-4442-8274-9F595DC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49C64-544C-4805-81ED-3AD6141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FEA14-E557-44F6-BE90-150AE238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26150-7360-4BA7-ADA3-B155FCE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79B87-B12B-4F19-A1E8-DA943E3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36620-633F-4AAB-9C3E-7DAD48C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0765A-9675-4D19-A18F-6A3DE39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DD470-0EB3-4EA8-8224-1FCF3070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38028-848E-424A-9D62-19AB8A5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45219-E034-489F-9CF2-1A8D93DA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5CFD3-19A4-4B73-AE0B-85BBFD90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0F6-E2A8-4D4E-AD42-008AC5B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27E06-92DB-4BAA-9C11-DCEE576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30861-44C0-4E6E-B908-8C8A7A88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1EAF9-1183-4A3A-B69E-67F2F15D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9B203-937A-4792-9825-6B8DB526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35A1B-B1E8-4DFA-A983-7B14048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E276E-9ABE-40BF-A764-C12EC80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5CD62-AFF2-47D7-B953-1C8DE27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04705-3A86-42BF-A098-AD0066AB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9D3E2-7C67-4B78-B29B-7D1969E3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6714D-DD46-45FF-8FD4-73D7653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5C9-C5E1-4163-AFCA-605CA75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6A0-3BB6-416C-A1FE-E31E701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EAC21-9CFC-43FC-82EE-AEBAF97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46711-9470-41E0-BA68-75B6C44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3D502-14A7-46E4-AA2F-9626EE9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59418-FF7C-414B-A7FF-0B4EAFAB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7B43E-DFB9-429C-9117-84E26D9A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09976-EB2E-40AD-BB64-CF96D0C3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2FC65-8E0F-42B0-BFBB-A72492A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E4962-675D-441E-890E-439811C8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2BC83-907A-4C76-8CAD-3CFDC38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C47C1-7C81-44F7-AE1A-B32C315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C99-31F3-4086-B50B-DC823AD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D2996-D76E-460B-A7BE-FF68353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64068-A62C-4AD5-9510-0165D28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ACD5F-8A60-45D6-AA04-AA2CED9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F6C80-E2FB-4A3F-AE74-CEBCB7A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54FA4-046B-43B7-9E1E-DE2C999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DF3B3-DBBD-4322-A7AF-FD5523C2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F379D-CDC4-4069-B22B-EF6EE8A9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4725A-0C23-47EF-841E-2DCE4C72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49FAA-517D-43B0-B3B4-7223C17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153C7-4D85-4608-83D4-7D024BC7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CDA-08E6-4B89-BF88-FD6E2BA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3E852-555E-4C1D-9E0B-A0727F0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AA255-7854-4D35-97B9-A13D0EED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9CF3F-AB69-4005-B5F0-F20EAE7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7FF5A-1937-410B-A2D4-94F295F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10A9C-A23E-4E2D-8C29-0CE2D33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98D93-48BC-45AA-ABE3-75AF226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F511A-F3C4-45DD-A27B-D1A0624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90F10-B663-477F-8680-11652928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DD827-EF72-4A63-9B60-F1F2EC0D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24F26-18C4-4A92-88D9-B5964F85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28EF-F903-41FF-A49F-9C52EEC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A9F7F-C748-4812-9B1B-663118B1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45AAD-F378-4DC3-B474-5215547B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BC0BE-2017-4458-8643-DAA74F3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5BD30-E975-448B-8A7D-CDB5F8C0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8CBAC-CF60-496B-8B73-A566B9F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789C7-3EEC-4093-A93A-CA11429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13D85-8EFB-4293-85C7-30F72C4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ABE5B-8C44-45EC-84B0-B48DBC3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84E07-FCEF-4F2A-8F2D-43FE341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97570-39D1-4FC7-808A-EE89D30B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A54-873A-4A13-B9EA-F1B0F361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FD7B3-53FE-4CDF-8704-34ED319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017A7D-4C8A-430B-83CD-B3D694B6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66BA4-6572-4E53-9FA9-4C10CEB1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7D4D7-3514-4DC4-BB35-69709E03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6E13A-2207-4F54-8646-844F0C6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B01BA-43FA-43E0-ACE3-D7B56BF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0E622-8700-421A-A1C7-8D304502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AE07A-71A5-4A01-AD17-53ABC15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FEBF0-A935-4BB0-B90B-4EAE03C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7B671-FB1A-4505-A5B1-534DEDA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127A-44DB-4247-856B-15E501BF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38CDB-E558-4B39-B0CD-503D712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D22C2-0877-4BE2-9463-C611809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AC6B6-933A-4728-B0EE-592B82B6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5912-5278-4852-AA80-29A032CC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2B5A-A930-4653-8A72-8DE44E2A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F7D2-353C-49D9-8ABB-0F550AA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22B2-7A1E-4318-80FD-86FCC8CC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3D2-36C6-43F5-BBB9-558EB372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F767-D6C4-4E3C-915C-2114B474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51AE-D74A-4BF3-BEC7-CA03E6EC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96A5-BEF1-4BE7-913E-84D1BE22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77E7-0D86-41B6-AA7C-F2F76F8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6A10-4C02-42C4-B66D-F2EE4A93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96A4-63E1-4667-9E5C-400957B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E104-5958-4074-B782-719901A1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69B6-F6B2-4856-A43E-51AE96AC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3754-43C1-49A8-AED0-44B7422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15EB-5E84-4FD2-BE20-574587DD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A52-85B5-4C6F-9BDF-32FBD814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6747-3933-4E44-B45E-637691E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B6BF-BBDD-4A9A-BF41-D311F04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265B-879A-445D-A9A3-C0943A3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5833-EA73-46E8-8AA8-CEAAD9A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5D71-2799-48CB-96E8-05F9281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A187-B452-43BA-8722-10C414B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7EE2-8FEC-4884-9D0B-3ABBC82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E3C3-13F4-4916-A9B5-5EBB0E13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0291-9C67-4DC0-BEE1-05FE9299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D07B-9025-4683-AD6C-52A14317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F26-CBC6-46EC-990A-9CF2326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9D31-4FD6-4CC0-B538-FEC70023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2A2E-7E3D-4585-BBB8-781952E4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5D9A-832A-4315-AC39-0409C68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7745-992A-44CB-A847-2B1269A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CAED8-768E-4F38-AB5D-931AFA4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A09E-31AF-4CC6-A11A-47C28D3E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F120-9217-4270-B74D-C97461D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377C-2213-417A-92AF-6C94C2F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C3AC-D7A2-43E1-A88C-AD6D816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7946-892E-49A5-B327-163DA91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BB0-F39D-47B6-9D9D-60CD7F4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8FD2-FB56-468E-9E25-FC8EFE7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C90EC-9447-45A7-9907-6947128B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27AC-9394-4D77-BF33-E38E5CE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FD8C-3C18-40EC-B4AF-0AA04A65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CA94-03CC-457F-ACA5-3B4A57B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E62E3-9B2C-4E2F-B14B-D45F82CF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2103-70CB-4E18-A501-413B8313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61FE-B592-4BA9-BFD3-9BBDACE9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8949-CB85-4115-AA06-A3151F2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1820-1A0A-4596-9123-7C9CD18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90F-D2C5-48A4-9675-C5D4551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2FE9-1386-4C68-8168-C5E2EA1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59C3-79AF-4076-859F-034F6660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8207-9850-4BE5-BC8B-54DB955E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2E7F-4A61-4F3C-933F-19809766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461D-FE4F-4A42-B6D5-127602FB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42CAF-5D12-4352-886B-5CD7AEB8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3A28-D0B4-4560-9C65-DE26E83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9457A-35E4-4985-911E-5410898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B196-F815-4E97-823F-772033A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EC0B-315C-4E4A-A2E3-76F635F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155-624F-4546-8756-E5D4204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7A4F-F0A7-4EE6-8C54-5FF2613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F831D-2639-4249-9148-8D3EE5EB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2DD8E-5BCF-4BE4-BDC2-17B767E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AA6D7-C972-43CA-9FD2-765C09AC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BB10-44C1-4070-A363-DA8ED75E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A3EC1-9BFA-4576-B33F-AF341059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C512-0748-45A4-AF82-B6A8BF25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796D-FC11-4AB6-8F14-10B9BF3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5E59-9963-48C7-B83C-323DAF9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B022F-9442-4BAA-8998-4631A56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704-550F-4695-A88B-6ECF3CF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2D700-3106-4745-B600-4F28B09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335A1-890E-4229-9560-C949FBA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2A7D-D209-40FF-B010-92E1E6D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EE7EF-9F7A-432F-97CA-F207520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D2280-32BC-4A6B-8FEF-477914E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0247-7D90-41C3-BB50-41C7BF3B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7851-7BE3-4C68-AA9B-F4A3B760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DA832-8218-45FF-8A95-CAC33409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F1259-C513-4148-8352-CEF5183D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C7FEC-BF6B-469C-AD29-8643765C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B622-81E3-4062-ADCF-479A93F05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8A87-15D0-497B-960A-7895A317B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432-053F-4001-8B34-ACF2BD73D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3E54-31E9-473B-B8B1-ACC114E72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4E0-4570-4E48-87ED-3E02898E4E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B8F-8897-4C8F-A268-13B050C40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F8C5-4A4C-4B07-98F1-C0236CF71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2A3-7A62-4D97-8C12-7B5229C44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919A-D5F2-46EA-9E44-FAEA47A52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22F-5D05-4176-B7EA-1FBCCB2E6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CA56-E089-405B-B7FE-DA288C9EB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304-9852-445F-806C-0C5A908DBF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8F58-BC36-4D65-8899-B1202FD2C1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369-C1F0-41AF-A3D2-AA2FE0463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E6F8-6EC9-4398-851A-4AAA01CE0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C413-E468-4B4E-974C-02745D70F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C821-B7D6-48AF-B7DE-C812F0A15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4CF-611C-4319-A832-27CBE71D0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C64-7015-4DDA-B2E7-D712A8A93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7F8-4D64-4157-B680-7925462A1D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739E-C61D-4F3D-BE2B-90657C17F3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CCDD-17EF-4488-9DD5-577872F48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4C9-C3EA-4F98-A81A-F6CFD53C2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48A-5402-45E4-8B04-54E873218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F8D9-844B-49E9-9C4D-70FC32990D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5506-75AF-4EDA-BABC-D1AF9CC47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D16-4579-44BC-B44F-D1024D608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DF1-AC10-418A-AC96-785F00ED6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2D5E-3CA2-4765-B05D-AD7C96B1A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9AF0-A679-41EA-A577-9E27F2C6D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88D-01A6-4D15-B6D5-228BB02C6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9EC-0F91-480B-A520-729D62FA7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8DA-F886-4549-BBCD-8569D6609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14B-5673-4FF9-88AF-013C969B4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C1D-9683-464B-90A1-4A4B7C5A7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50C-8F51-49E6-80F2-D8A44B81C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AFA-246A-48FA-83F3-528E64963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9B9E-8397-4476-B2C3-FB7EDECF8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CACB-E24E-4E72-BE21-D3E8475A3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64F-2B0B-4BC1-982A-235E53454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8520" y="2610000"/>
            <a:ext cx="88884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4100" descr=""/>
          <p:cNvPicPr/>
          <p:nvPr/>
        </p:nvPicPr>
        <p:blipFill>
          <a:blip r:embed="rId2"/>
          <a:stretch/>
        </p:blipFill>
        <p:spPr>
          <a:xfrm>
            <a:off x="176040" y="1690560"/>
            <a:ext cx="8791920" cy="3476880"/>
          </a:xfrm>
          <a:prstGeom prst="rect">
            <a:avLst/>
          </a:prstGeom>
          <a:ln w="0">
            <a:noFill/>
          </a:ln>
        </p:spPr>
      </p:pic>
      <p:sp>
        <p:nvSpPr>
          <p:cNvPr id="1029" name="直接连接符 4101"/>
          <p:cNvSpPr/>
          <p:nvPr/>
        </p:nvSpPr>
        <p:spPr>
          <a:xfrm>
            <a:off x="2700360" y="2997360"/>
            <a:ext cx="280836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4102"/>
          <p:cNvSpPr/>
          <p:nvPr/>
        </p:nvSpPr>
        <p:spPr>
          <a:xfrm>
            <a:off x="3621240" y="3500280"/>
            <a:ext cx="1958760" cy="936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3"/>
          <p:cNvSpPr/>
          <p:nvPr/>
        </p:nvSpPr>
        <p:spPr>
          <a:xfrm>
            <a:off x="3376440" y="4005360"/>
            <a:ext cx="2132280" cy="93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4"/>
          <p:cNvSpPr/>
          <p:nvPr/>
        </p:nvSpPr>
        <p:spPr>
          <a:xfrm flipV="1">
            <a:off x="2987640" y="2997360"/>
            <a:ext cx="2521080" cy="1511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5"/>
          <p:cNvSpPr/>
          <p:nvPr/>
        </p:nvSpPr>
        <p:spPr>
          <a:xfrm flipV="1">
            <a:off x="3348000" y="3933720"/>
            <a:ext cx="2160720" cy="1077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9440" y="816120"/>
            <a:ext cx="8923320" cy="5972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5805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547560" y="1419120"/>
            <a:ext cx="8047080" cy="4019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340000" y="4408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561960" y="2228760"/>
            <a:ext cx="8020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4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